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6AD-2AF1-48C6-AA71-8881BA59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20F-9D5A-421D-AE50-B3573BA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E41-033B-4678-B5E8-156E536E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2E4-47FD-4297-B7B7-B94BB071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F63-EE38-4069-915C-ADF9FCB9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3FF-622F-4981-9C9B-394AB476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27C-BAB8-47AD-95A5-D2C732B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23E-D1CA-4B96-B4CE-E67E250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030-89A0-4FFA-B1EC-F72EF2E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8F5-2F0E-411E-B6CE-9366565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CA6-ADA6-4562-AC3B-EA79D77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C74-DAD2-4CF9-93F2-24EBF78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4A3A-6C35-4355-8957-061C212A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12160" y="0"/>
            <a:ext cx="13698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1166760" cy="175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86600" y="4724280"/>
            <a:ext cx="141588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581280" y="5029200"/>
            <a:ext cx="2336760" cy="153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959520" y="2666880"/>
            <a:ext cx="2184480" cy="172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85800" y="0"/>
            <a:ext cx="1397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438280" cy="61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115920"/>
            <a:ext cx="180324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584520" y="0"/>
            <a:ext cx="1901880" cy="19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657600" y="2743200"/>
            <a:ext cx="22604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23T22:32:30Z</dcterms:modified>
  <cp:revision>11</cp:revision>
  <dc:subject/>
  <dc:title>Slide 1</dc:title>
</cp:coreProperties>
</file>